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208-67F7-4A8C-AFDF-5BF6D9D6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135-F626-4F39-8707-75B6501D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8C0-6B13-47B9-8028-A369BB9A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7E9-2AD8-4299-A359-F618AA04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92E-F9C9-4331-9DF1-31428C68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614-E9D1-4BCB-87E5-0E279E54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1C7-3320-4DFA-B8E0-EE85C4DD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0EA-0C4B-49EF-9343-D6826BCE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0F1-576B-4D42-A389-065A2EB7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02B-0A46-4405-923D-0EF8AAAD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C59-F532-4910-A5AE-4A0E681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DC4-AAF9-4684-A467-2259293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7C999-DFF4-4F11-9FEE-D4943DC82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57A97-E8FF-44C2-B868-0AE97932C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is an adaptation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846000"/>
            <a:ext cx="914400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ed eyed tree frogs have adapted to live in the tropical rainforest.  These frogs have adapted to survive in a warm, wet enviro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ich adaptations have allowed red eyed tree frogs to survive in their environ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– Green skin to blend in with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uction disks on fingers and toes to stick to lea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– Being nocturnal to hide from pred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A short tongue to catch bu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– Small ears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aying their eggs on leaves over pools of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-  Webbed feet to climb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Bright red eyes to surprise and confuse predato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tudy guide Part II will be issued tomorrow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Honors projects will be assigned tomorrow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Your exam will be next Frida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a Review -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answer an adaptation questi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question and answer choices carefu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le the biome the question is asking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answer choice which best describes adaptations for that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576440"/>
            <a:ext cx="118220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osevelt elk are a type of deer that have adapted to live in the temperate rainforest.  These elk have adapted to survive in an wet, cool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ch adaptation has allowed Roosevelt elk to survive in their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Thick fur to stay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ig ears to keep c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Small tails to stay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Long legs to run through g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846000"/>
            <a:ext cx="914400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ey squirrels have adapted to live in the temperate deciduous forest.  These squirrels have adapted to survive in a forest environment with four seas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ich adaptations have allowed grey squirrels to survive in their environ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- Storing food for wi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Grey fur to blend in with tree ba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- Big ears to keep c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ng tails to help them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-  Small tails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Webbed feet for swimm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-  Sharp teeth to open n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Small eyes to watch for pred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846000"/>
            <a:ext cx="914400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lar bears have adapted to live in the tundra.  These bears have adapted to survive in a cold, harsh enviro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ich adaptations have allowed polar bears to survive in their environm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– Hibernating in the wi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Having thin fur to keep c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– Migrating in the winter to the dese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White fur color for camouflag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-  Thick fur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Big feet to walk on the sn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 -  Big ears to stay wa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 Sharp teeth to hunt pr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4:02:11Z</dcterms:created>
  <dc:creator>Caroline Roth</dc:creator>
  <dc:description/>
  <dc:language>en-US</dc:language>
  <cp:lastModifiedBy>Caroline Roth</cp:lastModifiedBy>
  <dcterms:modified xsi:type="dcterms:W3CDTF">2011-04-28T04:30:03Z</dcterms:modified>
  <cp:revision>2</cp:revision>
  <dc:subject/>
  <dc:title>Do Now</dc:title>
</cp:coreProperties>
</file>